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2.png" ContentType="image/png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52A6-FC72-4E0F-AB6C-6247BBB07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65CE-4783-40C0-996E-6B8B1944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66BB-D40A-4CF3-9F94-098B9AF94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F563-33F6-4324-98A0-4E7E2F1A9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097F-BEB1-40F5-8ABD-289A0A96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8DEF-E93A-488C-8861-39EC92EF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E179-0694-494E-A755-CB98B4D9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1AE9-03E8-4BD8-B29E-928DECA9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3144-5730-4C48-A56D-BE8FC7E5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CF98-8C43-489D-9EC4-AF8DD0A3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543B-E83A-48C8-88BD-4FD103E2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BA4E-A95B-41CF-AC4D-5464BD88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9D7C-E4F1-423D-8B2D-BBFAC127847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81D4-CB76-4DE5-83C1-146C75152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emetry in Asthma C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dilato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iten Chh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 As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vanavarjit Ragav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tober 2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in detail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MT"/>
              </a:rPr>
              <a:t>Patients unconsciously accommodate to their symptoms, or mistakenly attribute these symptoms to other causes, like aging, obesity, or lack of fitness, so that they do not report them read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rens’ perception of airflow obstruction is highly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ten, Ali, Lava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49CF-E4AC-46A3-AB41-C2D887B9502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5D28BA-5029-49DD-B886-2F7B8E5985A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Asthma Pati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MT"/>
              </a:rPr>
              <a:t>Four Types of Asthma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d intermittent (comes and goes) – once or twice a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d persistent asthma - &gt; twice a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rate persistent asthma – daily symp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e persistent asthma – throughout the 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ten, Ali, Lava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8A0C-3DB4-40A3-9440-CC8E51E3CA5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6ACD28-873A-4FB7-8486-2C4B4C2A66E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emetry in Asth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metry and Remote Diag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ous 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possible attacks and alert associated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ak flow monitoring during exacerbations will help determine the severity of the exacerbations and guide therapeutic decisions in the home, school, clinicians’ office, or 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hma control 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modules – Hospital End, Patient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ten, Ali, Lava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1C75-D7FD-4E13-8AED-A6EB336B0AA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4C8AD3-C19A-4550-BB92-FC0CC097076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of PEFR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tor reviews the patients who are exhibiting moderate and severe symp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Patient Whee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gger alarms at the school nurse or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ten, Ali, Lava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B813-B144-47DD-B890-8925BFD9DD4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82C42D-9B62-458B-B422-6EBF239E4A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rget Aud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der home peak flow monitoring during exacerbations of asthma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tients who have a history of severe exacerbations (Evidence B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tients who have moderate or severe persistent asthma (Evidence B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tients who have difficulty perceiving signs of worsening asthma (Evidence 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ten, Ali, Lava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48EA-8C90-4D93-A87E-8E628E6EEA0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4422F0-9546-4E7F-AD5B-D12BD16633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spital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48320" y="1447920"/>
            <a:ext cx="4073400" cy="4724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62120" y="4419720"/>
            <a:ext cx="3657600" cy="184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ten, Ali, Lava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B1FE-2627-4C55-921A-515A8976E4B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440FAD-8DAB-4BA7-A4C9-80B60A2F5C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ient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rometer connected to computer which updates the database with the daily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PEFR values, patient grouped as steady, moderate or severe pati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562720" y="1219320"/>
            <a:ext cx="3429000" cy="2884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ten, Ali, Lava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246E-3A35-4439-859E-A98E1287232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37A956-0A6C-4489-8796-1F5F0E764A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ndant - Whee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248520" y="1600200"/>
            <a:ext cx="2627280" cy="3809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5720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dant with a microphone which can record the patient’s brea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ase of wheeze, the pendant turns colour, alerts school nurse/ par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ten, Ali, Lava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7C42-1006-493C-81AC-7CACE9EA7EA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BE534F-7CC6-44DB-A0AE-1A11DD01638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rometer 1000 - 4000$ ????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FR (electronic metered devices) 50 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pital floor pl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uch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dant st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ten, Ali, Lava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231E-F49A-4CC4-8860-6599A41CF3D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F75886-87E5-4802-960F-9CA56BF46CB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erature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4551480" cy="3402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105520" y="1560600"/>
            <a:ext cx="3809880" cy="2859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05520" y="4495680"/>
            <a:ext cx="2058840" cy="17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ten, Ali, Lava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8103-724A-4649-8BA7-4622391B7AC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3FA4CD-22EA-4187-8CE0-20EED4295E5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400068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ten, Ali, Lava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2604-15C6-42F4-9CB9-790C0A8B692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E05B73-59D0-471F-AA1C-2412D73B10C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5105160" cy="429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ten, Ali, Lava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F34D-784A-42ED-A757-3509A52423A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0C0CCE-EEFB-420E-973A-3C4D8E63D60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352680" y="1752480"/>
            <a:ext cx="2627280" cy="381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ten, Ali, Lava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6979-711E-4D5E-AB7A-7042ABD55D9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FBB371-389C-4A9A-9807-C63A0F5C3E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th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nic illness in  respirato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nchial tube becomes inflated, lined with mu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ggers – allergens, air, exercise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ptoms - Wheezing, shortness of breath, chest tightness, c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5863" t="5842" r="4763" b="3649"/>
          <a:stretch/>
        </p:blipFill>
        <p:spPr>
          <a:xfrm>
            <a:off x="4419720" y="1523880"/>
            <a:ext cx="4647960" cy="472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ten, Ali, Lava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F3A3-4861-4DDD-899E-8AFDB8943AF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F19ACA-19BD-48BA-AD7F-4F49B573D64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ak Expiratory Flow Rate PEFR– patient's max ability to expel air from the lu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% difference on at least 3 days/week for 2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hildren – allergy trigger – pollen, pets, f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or more Sports, 3 times more chances – 17 times more air than normal - California Children's Health Stu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342120" y="3505320"/>
            <a:ext cx="2649600" cy="2743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14402" t="7233" r="23205" b="0"/>
          <a:stretch/>
        </p:blipFill>
        <p:spPr>
          <a:xfrm>
            <a:off x="6629400" y="1143000"/>
            <a:ext cx="2286000" cy="22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ten, Ali, Lava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D474-B5DA-40CC-915A-0B49EF9B0A3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58B4A0-BFB9-4362-968E-52905BE28E0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rig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ment – severity,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evers – nebulizers, bronchodil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tive –  glucocortids – suppress inflammation, antihistam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– O2, intubation &amp; mechanical vent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562720" y="1447920"/>
            <a:ext cx="3352680" cy="267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ten, Ali, Lava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3D13-79E8-4CBB-A1BA-7FF5FFD5392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57B892-C7E4-4202-92A9-0C5634F57E1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of Visits to hospi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ability to continuously monitor patient’s  asthma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’s tendency to adjust to symp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ild’s perception of airflow obstruction is highly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ten, Ali, Lava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AF8F-69C8-45C7-8C9E-EB2CE335FEA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B43F32-4754-45C0-A12B-3BB88BD12F2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in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quency of Vis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mittent or mild persistent asthma once every 6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ients who have uncontrolled and/or severe persistent asthma – more of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iculty in monitoring and trac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105520" y="3267000"/>
            <a:ext cx="3886200" cy="267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ten, Ali, Lava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5E4E-1FAF-49CF-81F3-CAC486E63DE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554535-E49F-4085-9946-50A5C0AB2E9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9:24:33Z</dcterms:created>
  <dc:creator>labuser</dc:creator>
  <dc:description/>
  <dc:language>en-US</dc:language>
  <cp:lastModifiedBy>labuser</cp:lastModifiedBy>
  <dcterms:modified xsi:type="dcterms:W3CDTF">2007-10-25T20:35:22Z</dcterms:modified>
  <cp:revision>14</cp:revision>
  <dc:subject/>
  <dc:title>Asthma Telemetry</dc:title>
</cp:coreProperties>
</file>